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DCC-1315-43C2-AD79-D93A5A2C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C93-124F-424E-8894-CD02BD8A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ADD-D01B-434F-AFC6-7E620578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22F-2687-4A4F-A290-41AE07DA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0FC-74B8-4CA6-A3E3-D75D0664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7C2-DAB2-41BE-AAC9-1260F486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106B-A99D-4305-A1D3-D263467F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C15-8E6F-4AB7-AE64-ED7ED94F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E19-9817-4304-8EC9-096DD70C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3A0-2BEA-4527-A9E0-86BFE315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45B-0666-4F2E-80E0-92B002D5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75C-E874-4B09-89A4-E0C6BAF4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4E1B-C0E6-4571-BE47-B634B033B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Improving home energy performance"/>
          <p:cNvPicPr/>
          <p:nvPr/>
        </p:nvPicPr>
        <p:blipFill>
          <a:blip r:embed="rId1"/>
          <a:stretch/>
        </p:blipFill>
        <p:spPr>
          <a:xfrm>
            <a:off x="2438280" y="1219320"/>
            <a:ext cx="33339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3T13:51:29Z</dcterms:created>
  <dc:creator>HISD</dc:creator>
  <dc:description/>
  <dc:language>en-US</dc:language>
  <cp:lastModifiedBy>HISD</cp:lastModifiedBy>
  <dcterms:modified xsi:type="dcterms:W3CDTF">2013-06-03T14:00:01Z</dcterms:modified>
  <cp:revision>1</cp:revision>
  <dc:subject/>
  <dc:title>Slide 1</dc:title>
</cp:coreProperties>
</file>